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77AD-2B97-49D5-8E6E-CF4014864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0F82-7499-4774-84F9-2DB0A9EC4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E0B2-5513-4AE4-936D-8FB27037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832-6328-42CE-9372-4046015D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487-DF91-4856-928B-2FAC4530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A43C-FBD8-425A-BBAF-4AC5A718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288E-630C-468F-8BDD-92093030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0DEE-18CD-4340-8145-4AF68B28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6218-309D-41CC-BA0C-79EB26CF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8304-08FE-42A4-8068-C6A1C3CE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F667-8F9E-46CA-9E34-6C023101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39A4-144B-42AD-9F1F-E3F51FF5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0574-6075-4E56-9C46-01CE499C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C44-DB80-4C4E-BCA8-A9C5E328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68E4-6031-4D16-A0D4-3E3D2ECA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1390-1E6F-4A9C-BF5E-C9AB4EEC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DEDA-5BBB-4025-95C1-EDD5853A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4E1C-9873-4A02-88AA-12DBC9D8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9243-E3E8-45ED-A8F1-5FED6FD5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6383-81E2-4444-9147-35A3228A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C32-D3EC-4C69-A3DF-8219E08F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0B2-9351-4978-A90E-2BBD1406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2537-AD38-4118-8FE4-4AB8AE29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547-BB66-4DFE-B830-DB38B8FE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C71-3321-48A1-93D8-14A9BE9A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95A-6C30-431F-BEA5-7D4F296D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BB6D-6EA6-4876-8D99-E3E25D730C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84EC-7EA3-4ABB-AEA6-DD5322BD77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97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800" spc="-1" strike="noStrike">
                <a:solidFill>
                  <a:srgbClr val="330033"/>
                </a:solidFill>
                <a:latin typeface="Times New Roman"/>
              </a:rPr>
              <a:t>Introduction </a:t>
            </a: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to</a:t>
            </a:r>
            <a:r>
              <a:rPr b="1" lang="sr-Latn-RS" sz="4800" spc="-1" strike="noStrike">
                <a:solidFill>
                  <a:srgbClr val="330033"/>
                </a:solidFill>
                <a:latin typeface="Times New Roman"/>
              </a:rPr>
              <a:t> pathoph</a:t>
            </a: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y</a:t>
            </a:r>
            <a:r>
              <a:rPr b="1" lang="sr-Latn-RS" sz="4800" spc="-1" strike="noStrike">
                <a:solidFill>
                  <a:srgbClr val="330033"/>
                </a:solidFill>
                <a:latin typeface="Times New Roman"/>
              </a:rPr>
              <a:t>siolog</a:t>
            </a: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39333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artment of 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culty of medical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versity of Kragujev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tiolog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cal fact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iological factors can b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rimary (</a:t>
            </a:r>
            <a:r>
              <a:rPr b="0" lang="sr-Latn-R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main)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logic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secondary (helping)</a:t>
            </a:r>
            <a:r>
              <a:rPr b="0" lang="sr-Latn-RS" sz="28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logic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ending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rom the external environment or the organism itself)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vided into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e64f0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xogenous</a:t>
            </a:r>
            <a:r>
              <a:rPr b="0" lang="sr-Latn-RS" sz="28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logic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endogenous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logic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xogenous</a:t>
            </a: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 etiological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act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agent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(trauma,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, pressure, irradiation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agent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(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sons, drug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Biological agents (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roorganism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: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eria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u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,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gu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asite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tritional imbalance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39909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ndogenous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etiological fact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ge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ed (transmitted from the parents to their children through the ge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genital (present from the bir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b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en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l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unologi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ndogenous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factors examp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Inherited condi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conditions that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ed down to you from your parent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mophil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 disorder that leads to excessive bleeding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Metabolic disord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ormalities in the chemical signaling and interaction in the body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R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abetes mellitus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lood sugar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Problems with immunity</a:t>
            </a: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reaction of the immune system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330033"/>
                </a:solidFill>
                <a:latin typeface="Times New Roman"/>
              </a:rPr>
              <a:t>4.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hat is Pathogenesis</a:t>
            </a:r>
            <a:r>
              <a:rPr b="0" lang="sr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?</a:t>
            </a:r>
            <a:r>
              <a:rPr b="1" i="1" lang="en-US" sz="42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87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patho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=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 pain, suffering, distres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genesi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=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 onset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Deals with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mechanism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 involved in disease </a:t>
            </a:r>
            <a:r>
              <a:rPr b="1" lang="en-GB" sz="3200" spc="-1" strike="noStrike">
                <a:solidFill>
                  <a:srgbClr val="303000"/>
                </a:solidFill>
                <a:latin typeface="Times New Roman"/>
              </a:rPr>
              <a:t>onset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 and disease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03000"/>
                </a:solidFill>
                <a:latin typeface="Times New Roman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</a:rPr>
              <a:t>Example of p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athogenesi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stic fib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214200" y="957240"/>
            <a:ext cx="83584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FTR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sr-Latn-RS" sz="3200" spc="-1" strike="noStrike">
                <a:solidFill>
                  <a:srgbClr val="0070c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stic </a:t>
            </a:r>
            <a:r>
              <a:rPr b="1" lang="sr-Latn-RS" sz="3200" spc="-1" strike="noStrike">
                <a:solidFill>
                  <a:srgbClr val="0070c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rosis </a:t>
            </a:r>
            <a:r>
              <a:rPr b="1" lang="sr-Latn-RS" sz="3200" spc="-1" strike="noStrike">
                <a:solidFill>
                  <a:srgbClr val="0070c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smembrane </a:t>
            </a:r>
            <a:r>
              <a:rPr b="1" lang="sr-Latn-RS" sz="3200" spc="-1" strike="noStrike">
                <a:solidFill>
                  <a:srgbClr val="0070c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539640" y="1484280"/>
            <a:ext cx="3672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TR controls the movement of chloride ions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e64f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</a:rPr>
              <a:t>the epithelial cells of the exocrine glands </a:t>
            </a: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</a:rPr>
              <a:t>the lumen 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(biliary tract, bronchial glands, small intestine,test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e64f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INTO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</a:rPr>
              <a:t>the epithelial cells of the sweat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Rectangle 6"/>
          <p:cNvGrpSpPr/>
          <p:nvPr/>
        </p:nvGrpSpPr>
        <p:grpSpPr>
          <a:xfrm>
            <a:off x="4522680" y="1816200"/>
            <a:ext cx="4054680" cy="4352760"/>
            <a:chOff x="4522680" y="1816200"/>
            <a:chExt cx="4054680" cy="4352760"/>
          </a:xfrm>
        </p:grpSpPr>
        <p:pic>
          <p:nvPicPr>
            <p:cNvPr id="138" name="Rectangle 6" descr=""/>
            <p:cNvPicPr/>
            <p:nvPr/>
          </p:nvPicPr>
          <p:blipFill>
            <a:blip r:embed="rId1"/>
            <a:stretch/>
          </p:blipFill>
          <p:spPr>
            <a:xfrm>
              <a:off x="4522680" y="1816200"/>
              <a:ext cx="4054680" cy="43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527720" y="1824120"/>
              <a:ext cx="4044960" cy="43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Cystic fibrosis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caused by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ce of muta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both copies of the gene for the CFTR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hannel is primarily responsible f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ling the movement of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from inside to outside of the c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in the sweat ducts, it controls the movement of chloride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from the sweat duct into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CFT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not func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ecretions which are usually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thin become thick and stick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324000" y="541440"/>
            <a:ext cx="7543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Function of </a:t>
            </a:r>
            <a:r>
              <a:rPr b="0" lang="sr-Latn-CS" sz="4400" spc="-1" strike="noStrike">
                <a:solidFill>
                  <a:srgbClr val="0070c0"/>
                </a:solidFill>
                <a:latin typeface="Times New Roman"/>
              </a:rPr>
              <a:t> CFTR </a:t>
            </a: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protein </a:t>
            </a:r>
            <a:r>
              <a:rPr b="0" lang="sr-Latn-RS" sz="3600" spc="-1" strike="noStrike">
                <a:solidFill>
                  <a:srgbClr val="330033"/>
                </a:solidFill>
                <a:latin typeface="Times New Roman"/>
              </a:rPr>
              <a:t>(CFTR gene, chromosome 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Rectangle 5"/>
          <p:cNvGrpSpPr/>
          <p:nvPr/>
        </p:nvGrpSpPr>
        <p:grpSpPr>
          <a:xfrm>
            <a:off x="822240" y="1292400"/>
            <a:ext cx="7248600" cy="4809960"/>
            <a:chOff x="822240" y="1292400"/>
            <a:chExt cx="7248600" cy="4809960"/>
          </a:xfrm>
        </p:grpSpPr>
        <p:pic>
          <p:nvPicPr>
            <p:cNvPr id="144" name="Rectangle 5" descr=""/>
            <p:cNvPicPr/>
            <p:nvPr/>
          </p:nvPicPr>
          <p:blipFill>
            <a:blip r:embed="rId1"/>
            <a:stretch/>
          </p:blipFill>
          <p:spPr>
            <a:xfrm>
              <a:off x="822240" y="1292400"/>
              <a:ext cx="7248600" cy="48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826920" y="1295280"/>
              <a:ext cx="7239240" cy="48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Clinical picture of cystic fibro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7" name="Picture 23" descr="GD110014"/>
          <p:cNvPicPr/>
          <p:nvPr/>
        </p:nvPicPr>
        <p:blipFill>
          <a:blip r:embed="rId1"/>
          <a:srcRect l="3447" t="0" r="0" b="0"/>
          <a:stretch/>
        </p:blipFill>
        <p:spPr>
          <a:xfrm>
            <a:off x="214200" y="1517760"/>
            <a:ext cx="5081760" cy="3960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9"/>
          <p:cNvSpPr/>
          <p:nvPr/>
        </p:nvSpPr>
        <p:spPr>
          <a:xfrm>
            <a:off x="2271600" y="2449440"/>
            <a:ext cx="57240" cy="98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2266920" y="3249720"/>
            <a:ext cx="57240" cy="982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2233440" y="3306600"/>
            <a:ext cx="57240" cy="748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459440" y="10080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llbl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039120" y="2459160"/>
            <a:ext cx="13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ile 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 flipH="1">
            <a:off x="2778120" y="2790720"/>
            <a:ext cx="379440" cy="1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7"/>
          <p:cNvSpPr/>
          <p:nvPr/>
        </p:nvSpPr>
        <p:spPr>
          <a:xfrm>
            <a:off x="2049480" y="1293840"/>
            <a:ext cx="4140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221400" y="2214720"/>
            <a:ext cx="15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ystic fibr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0000"/>
                </a:solidFill>
                <a:latin typeface="Times New Roman"/>
              </a:rPr>
              <a:t>of duc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9"/>
          <p:cNvSpPr/>
          <p:nvPr/>
        </p:nvSpPr>
        <p:spPr>
          <a:xfrm flipV="1">
            <a:off x="1327320" y="2577600"/>
            <a:ext cx="903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5295960" y="1571760"/>
            <a:ext cx="401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ty sk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ually the first si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ck, viscous secretion cover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iratory and digestive 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irato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m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t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571680" y="5003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5"/>
          <p:cNvSpPr/>
          <p:nvPr/>
        </p:nvSpPr>
        <p:spPr>
          <a:xfrm flipV="1">
            <a:off x="1709640" y="4452840"/>
            <a:ext cx="41616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ctur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cont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2960" y="1500120"/>
            <a:ext cx="8129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 of 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ic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genesis of the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urse (stages of the disease) and the outcome of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330033"/>
                </a:solidFill>
                <a:latin typeface="Times New Roman"/>
              </a:rPr>
              <a:t>6.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</a:rPr>
              <a:t>Definition of the 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diseas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</a:rPr>
              <a:t>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a process of known etiology and pathogenesi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presence by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pecific cellular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and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tissue damage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, and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linical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ymptoms and signs of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ymptoms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jective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</a:rPr>
              <a:t> evidence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of a dise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eaning that other people only know about them if informed by the individual with the condition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 (back pain, fatigue etc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igns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 evide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 disease, such as a skin rash or a cough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ymptoms and signs of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isease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results from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or decrease in metabolism or cell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function such as const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function such as increased mucus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mechanical function such as a seiz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lassification of diseases according to the cours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Acut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lasting up to seven day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ubacut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lasting from seven days to 6 week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hronic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lasting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longer then 6 wee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spectively…</a:t>
            </a:r>
            <a:r>
              <a:rPr b="0" lang="sr-Latn-R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rms of the disease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ubclinical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 (lat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mild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a disease with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learly expressed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evere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terminal degre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of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eas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s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ag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200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e distinguish the following stages of the disease</a:t>
            </a:r>
            <a:r>
              <a:rPr b="0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atent</a:t>
            </a:r>
            <a:r>
              <a:rPr b="1" lang="sr-Latn-R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stage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iod between exposure to etiological factor(s) and first symptoms/signs (in infectious diseases it is incubation period) - no manifestations of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ntroductory or </a:t>
            </a:r>
            <a:r>
              <a:rPr b="1" lang="en-U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rodromal</a:t>
            </a:r>
            <a:r>
              <a:rPr b="1" lang="sr-Latn-R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s and symptoms are usually mild and nonspecific like fatigue, fever</a:t>
            </a:r>
            <a:r>
              <a:rPr b="0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manifest 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stage 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or expressed disease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stage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ypical location of pain, typical skin changes, changes in plasma concentrations of minerals and other substances 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 </a:t>
            </a:r>
            <a:r>
              <a:rPr b="1" lang="en-U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regression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stage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l recovery of normal functions of the body 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The 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stage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eas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e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ding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omplet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healing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itutio ad integrum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in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omplet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h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transition to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athological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lethal outcom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or death of the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tus letal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3786120" y="4203720"/>
            <a:ext cx="24210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70c0"/>
                </a:solidFill>
                <a:latin typeface="Times New Roman"/>
              </a:rPr>
              <a:t>1. What 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is </a:t>
            </a:r>
            <a:r>
              <a:rPr b="0" lang="sk-SK" sz="4400" spc="-1" strike="noStrike">
                <a:solidFill>
                  <a:srgbClr val="0070c0"/>
                </a:solidFill>
                <a:latin typeface="Times New Roman"/>
              </a:rPr>
              <a:t>the pathophysiology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derives from Greek wor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pathos = disease, pain, suffering</a:t>
            </a:r>
            <a:r>
              <a:rPr b="0" lang="sr-Latn-RS" sz="3200" spc="-1" strike="noStrike">
                <a:solidFill>
                  <a:srgbClr val="0d0d0d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fysis = nature; </a:t>
            </a:r>
            <a:r>
              <a:rPr b="0" i="1" lang="sk-SK" sz="3200" spc="-1" strike="noStrike">
                <a:solidFill>
                  <a:srgbClr val="0d0d0d"/>
                </a:solidFill>
                <a:latin typeface="Times New Roman"/>
              </a:rPr>
              <a:t>and</a:t>
            </a: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logos =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</a:rPr>
              <a:t>Definition of pathophysiolo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a biomedical science dealing with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functional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changes in diseased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It studies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disordered or </a:t>
            </a:r>
            <a:r>
              <a:rPr b="0" lang="sk-SK" sz="32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altered functions </a:t>
            </a: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-</a:t>
            </a: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the physiologic mechanisms</a:t>
            </a:r>
            <a:r>
              <a:rPr b="0" lang="sr-Latn-RS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altered</a:t>
            </a: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by disease in the living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3200" spc="-1" strike="noStrike">
                <a:solidFill>
                  <a:srgbClr val="0d0d0d"/>
                </a:solidFill>
                <a:latin typeface="Times New Roman"/>
              </a:rPr>
              <a:t>ther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ubject</a:t>
            </a:r>
            <a:r>
              <a:rPr b="0" lang="sr-Latn-R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</a:t>
            </a: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of pathophysiology</a:t>
            </a:r>
            <a:r>
              <a:rPr b="0" lang="sr-Latn-R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are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ing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ing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the mechanisms of their action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the huma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70c0"/>
                </a:solidFill>
                <a:latin typeface="Times New Roman"/>
              </a:rPr>
              <a:t>I</a:t>
            </a:r>
            <a:r>
              <a:rPr b="0" lang="en-GB" sz="3600" spc="-1" strike="noStrike">
                <a:solidFill>
                  <a:srgbClr val="0070c0"/>
                </a:solidFill>
                <a:latin typeface="Times New Roman"/>
              </a:rPr>
              <a:t>nternational Society for Pathophysiology (1998)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Pathophysiology is a modern </a:t>
            </a:r>
            <a:r>
              <a:rPr b="1" lang="en-GB" sz="3200" spc="-1" strike="noStrike">
                <a:solidFill>
                  <a:srgbClr val="303000"/>
                </a:solidFill>
                <a:latin typeface="Times New Roman"/>
              </a:rPr>
              <a:t>integrative biomedical science 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founded on basic and clinical research that is concerned with the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mechanisms responsible for the initiation,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development,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and treatment of pathological processes 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in humans and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70c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lassification of pathophysiolog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Distingu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general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pathophysiolo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k-SK" sz="2400" spc="-1" strike="noStrike">
                <a:solidFill>
                  <a:srgbClr val="303000"/>
                </a:solidFill>
                <a:latin typeface="Times New Roman"/>
              </a:rPr>
              <a:t>It deals with general pathologic processes, involved in pathogenesis of more than one disease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</a:rPr>
              <a:t>, for example</a:t>
            </a:r>
            <a:r>
              <a:rPr b="0" lang="sk-SK" sz="2400" spc="-1" strike="noStrike">
                <a:solidFill>
                  <a:srgbClr val="303000"/>
                </a:solidFill>
                <a:latin typeface="Times New Roman"/>
              </a:rPr>
              <a:t> inflammation,fever,shock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special</a:t>
            </a:r>
            <a:r>
              <a:rPr b="0" lang="sr-CS" sz="32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</a:rPr>
              <a:t>pathophysiology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(is devoted to analysis and explanation of pathomechanisms involved in functional disturbances of the organs and systems of </a:t>
            </a:r>
            <a:r>
              <a:rPr b="0" lang="sr-Latn-RS" sz="2400" spc="-1" strike="noStrike">
                <a:solidFill>
                  <a:srgbClr val="303000"/>
                </a:solidFill>
                <a:latin typeface="Times New Roman"/>
              </a:rPr>
              <a:t>organs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:</a:t>
            </a:r>
            <a:r>
              <a:rPr b="0" lang="en-GB" sz="24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hematological, neurologic, metabolic disorders, </a:t>
            </a:r>
            <a:r>
              <a:rPr b="0" lang="sk-SK" sz="2400" spc="-1" strike="noStrike">
                <a:solidFill>
                  <a:srgbClr val="303000"/>
                </a:solidFill>
                <a:latin typeface="Times New Roman"/>
              </a:rPr>
              <a:t>dysfunctions of 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respiratory</a:t>
            </a:r>
            <a:r>
              <a:rPr b="0" lang="sk-SK" sz="2400" spc="-1" strike="noStrike">
                <a:solidFill>
                  <a:srgbClr val="303000"/>
                </a:solidFill>
                <a:latin typeface="Times New Roman"/>
              </a:rPr>
              <a:t> system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</a:rPr>
              <a:t> etc)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330033"/>
                </a:solidFill>
                <a:latin typeface="Times New Roman"/>
              </a:rPr>
              <a:t>2. 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Definitions of health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600200"/>
            <a:ext cx="7948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Health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is a state of complete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hysical, psychological and social well-being,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not just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he absence of illness and incapac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Health is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a balance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etween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he structure and function of the organism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and the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mental experience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which enables full working ability and thus full enjoyment of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The disease </a:t>
            </a: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is a disorder of this balance, with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reduced capacity </a:t>
            </a: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for work and reduced enjoyment of life and mental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3.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hat is 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tiology</a:t>
            </a:r>
            <a:r>
              <a:rPr b="0" lang="sr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?</a:t>
            </a:r>
            <a:r>
              <a:rPr b="1" i="1" lang="en-US" sz="42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ti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o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Deals with </a:t>
            </a:r>
            <a:r>
              <a:rPr b="0" lang="sk-SK" sz="2800" spc="-1" strike="noStrike">
                <a:solidFill>
                  <a:srgbClr val="e64f0c"/>
                </a:solidFill>
                <a:latin typeface="Times New Roman"/>
              </a:rPr>
              <a:t>causes</a:t>
            </a:r>
            <a:r>
              <a:rPr b="1" lang="sk-SK" sz="2800" spc="-1" strike="noStrike">
                <a:solidFill>
                  <a:srgbClr val="303000"/>
                </a:solidFill>
                <a:latin typeface="Times New Roman"/>
              </a:rPr>
              <a:t> (factors)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which </a:t>
            </a:r>
            <a:r>
              <a:rPr b="1" lang="en-GB" sz="2800" spc="-1" strike="noStrike">
                <a:solidFill>
                  <a:srgbClr val="303000"/>
                </a:solidFill>
                <a:latin typeface="Times New Roman"/>
              </a:rPr>
              <a:t>are involved in disease</a:t>
            </a:r>
            <a:r>
              <a:rPr b="1" lang="sk-SK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303000"/>
                </a:solidFill>
                <a:latin typeface="Times New Roman"/>
              </a:rPr>
              <a:t>onset</a:t>
            </a:r>
            <a:r>
              <a:rPr b="1" lang="sr-Latn-RS" sz="2800" spc="-1" strike="noStrike">
                <a:solidFill>
                  <a:srgbClr val="303000"/>
                </a:solidFill>
                <a:latin typeface="Times New Roman"/>
              </a:rPr>
              <a:t>,</a:t>
            </a:r>
            <a:r>
              <a:rPr b="1" lang="en-GB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and</a:t>
            </a:r>
            <a:r>
              <a:rPr b="0" lang="sr-RS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e64f0c"/>
                </a:solidFill>
                <a:latin typeface="Times New Roman"/>
              </a:rPr>
              <a:t>with</a:t>
            </a:r>
            <a:r>
              <a:rPr b="0" lang="sk-SK" sz="28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e64f0c"/>
                </a:solidFill>
                <a:latin typeface="Times New Roman"/>
              </a:rPr>
              <a:t>conditions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under which the causes are able</a:t>
            </a:r>
            <a:r>
              <a:rPr b="0" lang="sk-SK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to induce disease</a:t>
            </a:r>
            <a:r>
              <a:rPr b="0" lang="sr-RS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processes</a:t>
            </a:r>
            <a:r>
              <a:rPr b="0" lang="sk-SK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0:49:51Z</dcterms:created>
  <dc:creator>Simonovic</dc:creator>
  <dc:description/>
  <dc:language>en-US</dc:language>
  <cp:lastModifiedBy>User</cp:lastModifiedBy>
  <dcterms:modified xsi:type="dcterms:W3CDTF">2023-10-28T15:19:45Z</dcterms:modified>
  <cp:revision>85</cp:revision>
  <dc:subject/>
  <dc:title>UVOD U PATOLOŠKU FIZIOLOGIJU</dc:title>
</cp:coreProperties>
</file>